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gif" ContentType="image/gif"/>
  <Override PartName="/ppt/media/image28.jpeg" ContentType="image/jpeg"/>
  <Override PartName="/ppt/media/image26.jpeg" ContentType="image/jpeg"/>
  <Override PartName="/ppt/media/image23.jpeg" ContentType="image/jpeg"/>
  <Override PartName="/ppt/media/image19.gif" ContentType="image/gif"/>
  <Override PartName="/ppt/media/image21.jpeg" ContentType="image/jpeg"/>
  <Override PartName="/ppt/media/image6.gif" ContentType="image/gif"/>
  <Override PartName="/ppt/media/image17.gif" ContentType="image/gif"/>
  <Override PartName="/ppt/media/image16.jpeg" ContentType="image/jpeg"/>
  <Override PartName="/ppt/media/image15.jpeg" ContentType="image/jpeg"/>
  <Override PartName="/ppt/media/image29.gif" ContentType="image/gif"/>
  <Override PartName="/ppt/media/image10.jpeg" ContentType="image/jpeg"/>
  <Override PartName="/ppt/media/image5.png" ContentType="image/png"/>
  <Override PartName="/ppt/media/image35.jpeg" ContentType="image/jpeg"/>
  <Override PartName="/ppt/media/image25.gif" ContentType="image/gif"/>
  <Override PartName="/ppt/media/image34.jpeg" ContentType="image/jpeg"/>
  <Override PartName="/ppt/media/image20.png" ContentType="image/png"/>
  <Override PartName="/ppt/media/image36.jpeg" ContentType="image/jpeg"/>
  <Override PartName="/ppt/media/image40.png" ContentType="image/png"/>
  <Override PartName="/ppt/media/image7.jpeg" ContentType="image/jpeg"/>
  <Override PartName="/ppt/media/image38.jpeg" ContentType="image/jpeg"/>
  <Override PartName="/ppt/media/image32.jpeg" ContentType="image/jpeg"/>
  <Override PartName="/ppt/media/image33.jpeg" ContentType="image/jpeg"/>
  <Override PartName="/ppt/media/image39.jpeg" ContentType="image/jpeg"/>
  <Override PartName="/ppt/media/image8.gif" ContentType="image/gif"/>
  <Override PartName="/ppt/media/image13.jpeg" ContentType="image/jpeg"/>
  <Override PartName="/ppt/media/image12.jpeg" ContentType="image/jpeg"/>
  <Override PartName="/ppt/media/image4.png" ContentType="image/png"/>
  <Override PartName="/ppt/media/image31.gif" ContentType="image/gif"/>
  <Override PartName="/ppt/media/image1.gif" ContentType="image/gif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9.jpeg" ContentType="image/jpeg"/>
  <Override PartName="/ppt/media/image11.png" ContentType="image/png"/>
  <Override PartName="/ppt/media/image2.png" ContentType="image/png"/>
  <Override PartName="/ppt/media/image18.jpeg" ContentType="image/jpeg"/>
  <Override PartName="/ppt/media/image22.gif" ContentType="image/gif"/>
  <Override PartName="/ppt/media/image1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F14F0-FB9D-4EDF-B4BC-DE0EE1F37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F3126-8DF9-4A6D-AF2A-53DE252C3F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C3BFD-19E1-47E9-87CC-474393C588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F6273-9728-4A68-B571-63D875630C6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7F3A-FD8D-4B13-A70C-A5192D27C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35CF-F4D7-4769-8A96-03FB13A3F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8506-F2B7-4724-B584-EF3043DBD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08F8-E2A5-4AC7-A213-FFB9141C9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35DF-9DAC-458A-8D30-F736B9B7D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335A-433E-4AD2-9FAA-7345DFD3B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56A5-0EC8-44D5-8C00-7E6BF7526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F5F9-4392-45BF-AFCC-E3D976D9D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E06A-1F07-4B4E-9C43-D0767F79B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FF22-102D-4FA3-8D64-AE0FF449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DCC4-9D36-4CCD-ABE7-98C36E9A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5561-7B57-42CC-ACBE-84E995E8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F5234-8EE5-4618-941A-0AFFAD6A78C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1.gif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8.gif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04F8F-6E20-4B4C-9D75-41D55BB16E1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1D011-E358-4521-BE03-F6D26104658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Por tanto, nosotros también, teniendo en derredor nuestro tan grande nube de testigos, despojémonos de todo peso y del pecado que nos asedia, y corramos con paciencia la carrera que tenemos por delante, puestos los ojos en Jesús, el autor y consumador de la fe, el cual por el gozo puesto delante de él sufrió la cruz, menospreciando el oprobio, y se sentó a la diestra del trono de Dios.” </a:t>
            </a: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(Hebreos </a:t>
            </a:r>
            <a:r>
              <a:rPr b="1" i="1" lang="en-US" sz="38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76023-C106-412C-8F8F-026E576FEA5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72864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arácter …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munica y construye CREDIBILIDAD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nlleva RESPET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rea CONSISTENCI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gana CONFIANZ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9956C-0404-406A-892B-CE35D0CE301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ISCIPLI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sona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GURIDAD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 IDENTIDAD PERSONAL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6012000" y="836640"/>
            <a:ext cx="2966760" cy="1979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http://images.mylot.com/userImages/images/postphotos/2355283.gif"/>
          <p:cNvPicPr/>
          <p:nvPr/>
        </p:nvPicPr>
        <p:blipFill>
          <a:blip r:embed="rId2"/>
          <a:stretch/>
        </p:blipFill>
        <p:spPr>
          <a:xfrm>
            <a:off x="2916360" y="2816280"/>
            <a:ext cx="2570040" cy="2060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http://thumbs.dreamstime.com/x/generic-cartoon-person-walking-confidently-vector-clip-art-illustration-forward-34534212.jpg"/>
          <p:cNvPicPr/>
          <p:nvPr/>
        </p:nvPicPr>
        <p:blipFill>
          <a:blip r:embed="rId3"/>
          <a:stretch/>
        </p:blipFill>
        <p:spPr>
          <a:xfrm>
            <a:off x="7329600" y="4118040"/>
            <a:ext cx="1743120" cy="2674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05C51-E380-40AD-97CC-2E251507FE0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. Desarrollar CONVICCIONES PERSONALES, VALORES y ÉTIC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11" descr=""/>
          <p:cNvPicPr/>
          <p:nvPr/>
        </p:nvPicPr>
        <p:blipFill>
          <a:blip r:embed="rId1"/>
          <a:stretch/>
        </p:blipFill>
        <p:spPr>
          <a:xfrm>
            <a:off x="2344680" y="3143160"/>
            <a:ext cx="4452840" cy="3341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D6DC1-AB77-4A41-A50A-DF57C4C4340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1160" y="2276640"/>
            <a:ext cx="914400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1" lang="en-US" sz="49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49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16" descr="j0178299"/>
          <p:cNvPicPr/>
          <p:nvPr/>
        </p:nvPicPr>
        <p:blipFill>
          <a:blip r:embed="rId1"/>
          <a:stretch/>
        </p:blipFill>
        <p:spPr>
          <a:xfrm>
            <a:off x="4067280" y="1197000"/>
            <a:ext cx="971280" cy="9716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0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2448000" y="4149720"/>
            <a:ext cx="4248000" cy="2540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FEB5F-1A7C-4025-B62D-C135A4F88E8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0" y="9360"/>
            <a:ext cx="914400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Así que, hermanos, os ruego por las misericordias de Dios, que presentéis vuestros cuerpos 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crificio vivo, santo, agradable a Dios, que es vuestro culto racional. No os conforméis a este siglo,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sino transformaos por medio de la renovación de vuestro entendimiento, para que comprobéis cuál sea la buena voluntad de Dios, agradable y perfecta.”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Romano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1E707-94D3-49E8-A0E7-E39764F890E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08000" y="441000"/>
            <a:ext cx="9144000" cy="32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ra liderar a otros, debem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tres actitudes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otal rendimiento a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COMPROBA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PER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ESCON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4" descr="http://www.clipartbest.com/cliparts/7Ta/y6k/7Tay6kETA.jpeg"/>
          <p:cNvPicPr/>
          <p:nvPr/>
        </p:nvPicPr>
        <p:blipFill>
          <a:blip r:embed="rId1"/>
          <a:stretch/>
        </p:blipFill>
        <p:spPr>
          <a:xfrm>
            <a:off x="6357960" y="115920"/>
            <a:ext cx="2714760" cy="23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F4C04-0E5C-47EF-8770-1FE4B1443B9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2320" y="2491920"/>
            <a:ext cx="47512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17" descr="j0178300"/>
          <p:cNvPicPr/>
          <p:nvPr/>
        </p:nvPicPr>
        <p:blipFill>
          <a:blip r:embed="rId1"/>
          <a:stretch/>
        </p:blipFill>
        <p:spPr>
          <a:xfrm>
            <a:off x="1547640" y="1160640"/>
            <a:ext cx="1032120" cy="10317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Picture 7" descr="http://stickypictures.net/wp-content/uploads/2014/10/prayer-clip-art-2.jpg"/>
          <p:cNvPicPr/>
          <p:nvPr/>
        </p:nvPicPr>
        <p:blipFill>
          <a:blip r:embed="rId2"/>
          <a:stretch/>
        </p:blipFill>
        <p:spPr>
          <a:xfrm>
            <a:off x="5465880" y="2744640"/>
            <a:ext cx="3462120" cy="396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18C67-08AC-4134-81F4-5DE23D75FB0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0" y="4203720"/>
            <a:ext cx="914400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3 clases de oració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EDIR — Esta es la oración de f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CAR — Esta es la oración de dedicac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LAMAR — Esta es la oración de interces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480" y="-54000"/>
            <a:ext cx="9144000" cy="52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¿Está alguno entre vosotros afligido? Haga oración… ¿Está alguno enfermo entre vosotros? Llame a los ancianos de la iglesia, y oren por él… Y la oración de fe salvará al enfermo, y el Señor lo levantará… Confesaos vuestras ofensas unos a otros, y orad unos por otros, para que seáis sanados. La oración eficaz del justo puede mucho.” </a:t>
            </a:r>
            <a:r>
              <a:rPr b="1" lang="es-ES" sz="3400" spc="-1" strike="noStrike">
                <a:solidFill>
                  <a:srgbClr val="ffffff"/>
                </a:solidFill>
                <a:latin typeface="Garamond"/>
              </a:rPr>
              <a:t>(Santiago 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5:13-17)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0C3F8-19B5-4996-A179-47E3F2CE89E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5065560" y="3105000"/>
            <a:ext cx="4070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26" descr="j0178301"/>
          <p:cNvPicPr/>
          <p:nvPr/>
        </p:nvPicPr>
        <p:blipFill>
          <a:blip r:embed="rId1"/>
          <a:stretch/>
        </p:blipFill>
        <p:spPr>
          <a:xfrm>
            <a:off x="6335640" y="1197000"/>
            <a:ext cx="1006560" cy="10065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7" descr="http://www.kenandsue.org/images/Bible_clip_art_-colored_open.gif"/>
          <p:cNvPicPr/>
          <p:nvPr/>
        </p:nvPicPr>
        <p:blipFill>
          <a:blip r:embed="rId2"/>
          <a:stretch/>
        </p:blipFill>
        <p:spPr>
          <a:xfrm>
            <a:off x="250920" y="3105000"/>
            <a:ext cx="3889440" cy="3521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84FC8-189F-4F2F-A004-EDEC7E06FD6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441000"/>
            <a:ext cx="914400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El Corazón 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de un líder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esarrollando las cualidades que diferencian a los líderes de otro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ección #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1" name="Picture 19" descr="j0236214"/>
          <p:cNvPicPr/>
          <p:nvPr/>
        </p:nvPicPr>
        <p:blipFill>
          <a:blip r:embed="rId1"/>
          <a:stretch/>
        </p:blipFill>
        <p:spPr>
          <a:xfrm>
            <a:off x="7240680" y="907920"/>
            <a:ext cx="2031840" cy="1779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BF432-8A9B-4510-82F9-45A1DEA2D53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1"/>
          <p:cNvSpPr/>
          <p:nvPr/>
        </p:nvSpPr>
        <p:spPr>
          <a:xfrm>
            <a:off x="15840" y="388800"/>
            <a:ext cx="9128160" cy="74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Toda la Escritura es inspirada por Dios, y útil para enseñar, para redargüir, para corregir, para instruir en justicia, a fin de que el hombre de Dios sea perfecto, enteramente preparado para toda buena obra.”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3:16-17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Procura con diligencia presentarte a Dios aprobado, como obrero que no tiene de que avergonzarse, que usa bien la palabra de verdad.” 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2:15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3C8F6-78EE-43AE-93BB-C57A63D9E38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5840" y="297000"/>
            <a:ext cx="9144000" cy="51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estudiosos de la Palab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 Dios examinan la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crituras para entende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u significado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un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todo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este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6199200" y="549360"/>
            <a:ext cx="2840040" cy="19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3D92C-7162-48C5-9675-C3C18EBF702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45720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4967280" y="2884320"/>
            <a:ext cx="4032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15" descr="j0178302"/>
          <p:cNvPicPr/>
          <p:nvPr/>
        </p:nvPicPr>
        <p:blipFill>
          <a:blip r:embed="rId1"/>
          <a:stretch/>
        </p:blipFill>
        <p:spPr>
          <a:xfrm>
            <a:off x="6227640" y="1219320"/>
            <a:ext cx="1044720" cy="10443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10" descr=""/>
          <p:cNvPicPr/>
          <p:nvPr/>
        </p:nvPicPr>
        <p:blipFill>
          <a:blip r:embed="rId2"/>
          <a:stretch/>
        </p:blipFill>
        <p:spPr>
          <a:xfrm>
            <a:off x="142920" y="2205000"/>
            <a:ext cx="4300560" cy="416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FD6C4-0E0F-4116-A80E-2E976B44B42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0" y="7920"/>
            <a:ext cx="9144000" cy="72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 griegos y a no griegos, a sabios y a no sabios soy deudor. </a:t>
            </a: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sí que, en cuanto a mí, pronto estoy a anunciaros el evangelio también a vosotros que estáis en Roma. Porque no me avergüenzo del evangelio, porque es poder de Dios para salvación a todo aquel que cree; al judío primeramente, y también al griego.” 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Romanos 1:14-16)</a:t>
            </a:r>
            <a:br>
              <a:rPr sz="32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CF3E4-8CF7-4CB0-9A6A-28BE6008254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0" y="-63360"/>
            <a:ext cx="9144000" cy="46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apóstol Pablo expresa tres actitudes concernientes al Evangeli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OBLIG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ANSIOS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estoy AVERGONZ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6" descr="http://kids.christiansunite.com/images/Bible_Stories/219.jpg"/>
          <p:cNvPicPr/>
          <p:nvPr/>
        </p:nvPicPr>
        <p:blipFill>
          <a:blip r:embed="rId1"/>
          <a:stretch/>
        </p:blipFill>
        <p:spPr>
          <a:xfrm>
            <a:off x="6184800" y="3149640"/>
            <a:ext cx="2952720" cy="370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B804C-FCB7-4690-93F5-6B3128FEA99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920" y="3038040"/>
            <a:ext cx="3852720" cy="3429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que espera resultad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3" name="Picture 13" descr="j0178303"/>
          <p:cNvPicPr/>
          <p:nvPr/>
        </p:nvPicPr>
        <p:blipFill>
          <a:blip r:embed="rId1"/>
          <a:stretch/>
        </p:blipFill>
        <p:spPr>
          <a:xfrm>
            <a:off x="1638360" y="1449360"/>
            <a:ext cx="1077840" cy="10778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7" descr=""/>
          <p:cNvPicPr/>
          <p:nvPr/>
        </p:nvPicPr>
        <p:blipFill>
          <a:blip r:embed="rId2"/>
          <a:stretch/>
        </p:blipFill>
        <p:spPr>
          <a:xfrm>
            <a:off x="4788000" y="1290600"/>
            <a:ext cx="4119480" cy="5186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EBD48-9AAC-41B2-9A67-76A0F4D9AC3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79640" y="3321000"/>
            <a:ext cx="4319640" cy="244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en actitud y en acción</a:t>
            </a:r>
            <a:br>
              <a:rPr sz="4000"/>
            </a:b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8" name="Picture 13" descr="j0178304"/>
          <p:cNvPicPr/>
          <p:nvPr/>
        </p:nvPicPr>
        <p:blipFill>
          <a:blip r:embed="rId1"/>
          <a:stretch/>
        </p:blipFill>
        <p:spPr>
          <a:xfrm>
            <a:off x="6192720" y="1305000"/>
            <a:ext cx="1079640" cy="10792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9" descr="http://sr.photos3.fotosearch.com/bthumb/CSP/CSP991/k11740221.jpg"/>
          <p:cNvPicPr/>
          <p:nvPr/>
        </p:nvPicPr>
        <p:blipFill>
          <a:blip r:embed="rId2"/>
          <a:stretch/>
        </p:blipFill>
        <p:spPr>
          <a:xfrm>
            <a:off x="154080" y="1459080"/>
            <a:ext cx="4525920" cy="523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EEEC3-D0FE-41FB-8452-0194EBA84C2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17640" y="-114480"/>
            <a:ext cx="9001080" cy="81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Haya, pues, en vosotros este sentir que hubo también en Cristo Jesús, el cual, siendo en forma de Dios, no estimó el ser igual a Dios como cosa a que aferrarse, sino que se despojó a sí mismo, tomando forma de siervo, hecho semejante a los hombres; y estando en la condición de hombre, se humilló a sí mismo, haciéndose obediente hasta la muerte, y muerte de cruz.” 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Filipense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2:5-8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6E02D-2416-4055-9B51-79CFF25943A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8560" y="3104640"/>
            <a:ext cx="4392360" cy="273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en él mismo y en otr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5" name="Picture 13" descr="j0178305"/>
          <p:cNvPicPr/>
          <p:nvPr/>
        </p:nvPicPr>
        <p:blipFill>
          <a:blip r:embed="rId1"/>
          <a:stretch/>
        </p:blipFill>
        <p:spPr>
          <a:xfrm>
            <a:off x="1835280" y="1359000"/>
            <a:ext cx="1081080" cy="1081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7" descr="http://christrescuemission.org/yahoo_site_admin/assets/images/gift-within.187221124.png"/>
          <p:cNvPicPr/>
          <p:nvPr/>
        </p:nvPicPr>
        <p:blipFill>
          <a:blip r:embed="rId2"/>
          <a:stretch/>
        </p:blipFill>
        <p:spPr>
          <a:xfrm>
            <a:off x="5759280" y="895320"/>
            <a:ext cx="2521080" cy="5599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3D10D-E73C-4F3E-85FC-48425078845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280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para impartir poder a otros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50" name="Group 18"/>
          <p:cNvGrpSpPr/>
          <p:nvPr/>
        </p:nvGrpSpPr>
        <p:grpSpPr>
          <a:xfrm>
            <a:off x="3959280" y="873000"/>
            <a:ext cx="1223640" cy="863280"/>
            <a:chOff x="3959280" y="873000"/>
            <a:chExt cx="1223640" cy="863280"/>
          </a:xfrm>
        </p:grpSpPr>
        <p:pic>
          <p:nvPicPr>
            <p:cNvPr id="151" name="Picture 15" descr="j0178297"/>
            <p:cNvPicPr/>
            <p:nvPr/>
          </p:nvPicPr>
          <p:blipFill>
            <a:blip r:embed="rId1"/>
            <a:stretch/>
          </p:blipFill>
          <p:spPr>
            <a:xfrm>
              <a:off x="3959280" y="873000"/>
              <a:ext cx="767880" cy="86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6" descr="j0178296"/>
            <p:cNvPicPr/>
            <p:nvPr/>
          </p:nvPicPr>
          <p:blipFill>
            <a:blip r:embed="rId2"/>
            <a:stretch/>
          </p:blipFill>
          <p:spPr>
            <a:xfrm>
              <a:off x="4413600" y="873000"/>
              <a:ext cx="769320" cy="86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Text Box 1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9" descr="http://www.meadechurch.org/Customer-Content/meadechurch/CMS/images/wash_5624c.jpg"/>
          <p:cNvPicPr/>
          <p:nvPr/>
        </p:nvPicPr>
        <p:blipFill>
          <a:blip r:embed="rId3"/>
          <a:stretch/>
        </p:blipFill>
        <p:spPr>
          <a:xfrm>
            <a:off x="1008000" y="4051440"/>
            <a:ext cx="4248360" cy="2690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http://thumbs.gograph.com/gg64542846.jpg"/>
          <p:cNvPicPr/>
          <p:nvPr/>
        </p:nvPicPr>
        <p:blipFill>
          <a:blip r:embed="rId4"/>
          <a:stretch/>
        </p:blipFill>
        <p:spPr>
          <a:xfrm>
            <a:off x="6372360" y="4027320"/>
            <a:ext cx="1333440" cy="2749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7A600-7E84-4DCA-BD38-6FEB21F31D7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99640" y="728280"/>
            <a:ext cx="748836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Y los apacentó conforme a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integridad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 de su corazón, Los pastoreó con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pericia 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de sus manos.” 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(Psalmos 78:72)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E616F-6116-4CA0-9310-813944EBF8B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owel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it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98"/>
          <p:cNvSpPr/>
          <p:nvPr/>
        </p:nvSpPr>
        <p:spPr>
          <a:xfrm>
            <a:off x="0" y="1736640"/>
            <a:ext cx="9325080" cy="512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019F7-ADBE-4A56-85EC-DD6BD0FC3F4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6"/>
          <p:cNvSpPr/>
          <p:nvPr/>
        </p:nvSpPr>
        <p:spPr>
          <a:xfrm>
            <a:off x="4500720" y="1881360"/>
            <a:ext cx="349236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615E8-57ED-42DE-9ACF-9BD4C1E7424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9203D-1FEB-4B08-BEDA-0F8DAB651A5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D1165-8B70-488A-AFB7-AB79CB118D4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50988-78E5-4D2E-9907-59B692BBA80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E31E5-11EA-4B9E-97E3-93265AA9DBF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4A248-85EF-46F2-A4BD-23C1B20EF43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4500720" y="1881360"/>
            <a:ext cx="435600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3F177-88BF-48C6-A42D-A46A3B6DE92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3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F2768-5255-43B7-952B-F6CF392B609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3176640"/>
            <a:ext cx="4572000" cy="273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del Espíritu Santo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06" name="Group 17"/>
          <p:cNvGrpSpPr/>
          <p:nvPr/>
        </p:nvGrpSpPr>
        <p:grpSpPr>
          <a:xfrm>
            <a:off x="1440000" y="1449360"/>
            <a:ext cx="1193760" cy="862200"/>
            <a:chOff x="1440000" y="1449360"/>
            <a:chExt cx="1193760" cy="862200"/>
          </a:xfrm>
        </p:grpSpPr>
        <p:pic>
          <p:nvPicPr>
            <p:cNvPr id="207" name="Picture 14" descr="j0178297"/>
            <p:cNvPicPr/>
            <p:nvPr/>
          </p:nvPicPr>
          <p:blipFill>
            <a:blip r:embed="rId1"/>
            <a:stretch/>
          </p:blipFill>
          <p:spPr>
            <a:xfrm>
              <a:off x="144000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16" descr="j0178297"/>
            <p:cNvPicPr/>
            <p:nvPr/>
          </p:nvPicPr>
          <p:blipFill>
            <a:blip r:embed="rId2"/>
            <a:stretch/>
          </p:blipFill>
          <p:spPr>
            <a:xfrm>
              <a:off x="186552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9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0" name="Picture 2" descr="http://2.bp.blogspot.com/-89vKEtsDNyg/UuFzm8_VM1I/AAAAAAAAE2g/Y3ufAXUEELM/s1600/a+holy+spirit+clip+art.png+2.jpg"/>
          <p:cNvPicPr/>
          <p:nvPr/>
        </p:nvPicPr>
        <p:blipFill>
          <a:blip r:embed="rId3"/>
          <a:stretch/>
        </p:blipFill>
        <p:spPr>
          <a:xfrm>
            <a:off x="5041800" y="1584360"/>
            <a:ext cx="3645000" cy="4657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E7DA4-70E7-4F11-B59C-6781E3B5440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28728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b9efee"/>
                </a:solidFill>
                <a:latin typeface="Garamond"/>
              </a:rPr>
              <a:t>Hay dos lados de liderazgo:</a:t>
            </a:r>
            <a:br>
              <a:rPr sz="6600"/>
            </a:b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56" name="Rectangle 2" descr=""/>
          <p:cNvPicPr/>
          <p:nvPr/>
        </p:nvPicPr>
        <p:blipFill>
          <a:blip r:embed="rId1"/>
          <a:stretch/>
        </p:blipFill>
        <p:spPr>
          <a:xfrm>
            <a:off x="25560" y="1231920"/>
            <a:ext cx="9512280" cy="5105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http://en.clipart-fr.com/data/clipart/heart/heart_036.jpg"/>
          <p:cNvPicPr/>
          <p:nvPr/>
        </p:nvPicPr>
        <p:blipFill>
          <a:blip r:embed="rId2"/>
          <a:stretch/>
        </p:blipFill>
        <p:spPr>
          <a:xfrm>
            <a:off x="5003640" y="1378080"/>
            <a:ext cx="2616480" cy="2261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http://images.clipartpanda.com/hand-clip-art-black-and-white-hands-hi.png"/>
          <p:cNvPicPr/>
          <p:nvPr/>
        </p:nvPicPr>
        <p:blipFill>
          <a:blip r:embed="rId3"/>
          <a:stretch/>
        </p:blipFill>
        <p:spPr>
          <a:xfrm>
            <a:off x="287280" y="4184640"/>
            <a:ext cx="3373560" cy="2200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AB212-7F53-4D09-B1DC-B878042AF71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autoridad espiritual con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ven a Dios moverse constantemente en sus minister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una vida que demanda una explicación sobrenatural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20664-D612-481E-A619-77A876BA1AE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32000" y="2698560"/>
            <a:ext cx="4211640" cy="400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15" name="Group 19"/>
          <p:cNvGrpSpPr/>
          <p:nvPr/>
        </p:nvGrpSpPr>
        <p:grpSpPr>
          <a:xfrm>
            <a:off x="6389640" y="1592280"/>
            <a:ext cx="1294920" cy="863640"/>
            <a:chOff x="6389640" y="1592280"/>
            <a:chExt cx="1294920" cy="863640"/>
          </a:xfrm>
        </p:grpSpPr>
        <p:pic>
          <p:nvPicPr>
            <p:cNvPr id="216" name="Picture 16" descr="j0178297"/>
            <p:cNvPicPr/>
            <p:nvPr/>
          </p:nvPicPr>
          <p:blipFill>
            <a:blip r:embed="rId1"/>
            <a:stretch/>
          </p:blipFill>
          <p:spPr>
            <a:xfrm>
              <a:off x="6389640" y="159228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18" descr="j0178298"/>
            <p:cNvPicPr/>
            <p:nvPr/>
          </p:nvPicPr>
          <p:blipFill>
            <a:blip r:embed="rId2"/>
            <a:stretch/>
          </p:blipFill>
          <p:spPr>
            <a:xfrm>
              <a:off x="6821280" y="1592280"/>
              <a:ext cx="863280" cy="8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8" name="Text Box 20"/>
          <p:cNvSpPr/>
          <p:nvPr/>
        </p:nvSpPr>
        <p:spPr>
          <a:xfrm>
            <a:off x="0" y="18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9" name="Picture 7" descr=""/>
          <p:cNvPicPr/>
          <p:nvPr/>
        </p:nvPicPr>
        <p:blipFill>
          <a:blip r:embed="rId3"/>
          <a:stretch/>
        </p:blipFill>
        <p:spPr>
          <a:xfrm>
            <a:off x="514440" y="2602080"/>
            <a:ext cx="3960720" cy="3646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A777B-BA95-4374-BBB8-CAAD160CCF7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2349360"/>
            <a:ext cx="8136000" cy="1773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Sed imitadores de mi, asi como yo de Cristo.”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(1 Cor. 11:1)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1F095-98E3-428E-B41C-C820BD29A77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3" name="Picture 6" descr=""/>
          <p:cNvPicPr/>
          <p:nvPr/>
        </p:nvPicPr>
        <p:blipFill>
          <a:blip r:embed="rId1"/>
          <a:stretch/>
        </p:blipFill>
        <p:spPr>
          <a:xfrm>
            <a:off x="144360" y="520560"/>
            <a:ext cx="8856720" cy="574992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3"/>
          <p:cNvSpPr/>
          <p:nvPr/>
        </p:nvSpPr>
        <p:spPr>
          <a:xfrm>
            <a:off x="4680000" y="1700280"/>
            <a:ext cx="2556000" cy="331308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4680000" y="501336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324000" y="4869000"/>
            <a:ext cx="2555640" cy="57600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360360" y="350028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CBF92-6922-423C-BF10-FFF79A99F14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0" y="184644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iderazgo funciona en base a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NFIANZ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 integridad tiene u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VALO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alta influenc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ra destruir la tendencia de trabajar más duro por nuest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MAGE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que por nuestra integr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tegridad significa VIVIR la verdad primero,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Una personalidad carismática puede atraer gente, pero solo la INTEGRIDAD los mantendrá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azones por las que un corazón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tegridad es tan importante pa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2" name="Picture 19" descr="j0236214"/>
          <p:cNvPicPr/>
          <p:nvPr/>
        </p:nvPicPr>
        <p:blipFill>
          <a:blip r:embed="rId1"/>
          <a:stretch/>
        </p:blipFill>
        <p:spPr>
          <a:xfrm>
            <a:off x="7020000" y="-31680"/>
            <a:ext cx="2031840" cy="1781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738B9-06E0-41B8-B058-F7ACE79DCED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0" y="179712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integridad es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VICTORI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, no un regal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sted sólo 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ONVERTIRÁ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n lo que se está convirtiendo — ahora mism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 están para vivir en un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TÁNDAR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más alto que sus seguidor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0" y="-139680"/>
            <a:ext cx="74883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azones por las que un corazón de integridad es tan importante para los líder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7" name="Picture 19" descr="j0236214"/>
          <p:cNvPicPr/>
          <p:nvPr/>
        </p:nvPicPr>
        <p:blipFill>
          <a:blip r:embed="rId1"/>
          <a:stretch/>
        </p:blipFill>
        <p:spPr>
          <a:xfrm>
            <a:off x="6808680" y="17640"/>
            <a:ext cx="2030400" cy="1779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BDC99-874A-41EF-B4C0-1232CAA603B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15840" y="19080"/>
            <a:ext cx="9128160" cy="121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la vi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BSTÁCULO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955F8-D23E-4674-ABAD-CDB20586CC5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5840" y="19080"/>
            <a:ext cx="9128160" cy="10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ue espera resultad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actitud y en ac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él mismo y en otro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ara impartir pode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el Espíritu Sant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803AC-C725-4274-86EF-E0701AF4BB0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Preguntas 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o Comentarios?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F43DD-F9BC-440C-A626-7178293BA45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REPARANDO NUESTROS CORAZONES</a:t>
            </a:r>
            <a:br>
              <a:rPr sz="7200"/>
            </a:b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14760" y="1736280"/>
            <a:ext cx="9325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Hay dos cuestiones importantes (</a:t>
            </a: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Hechos 9:3-6)(Hechos 22:7,10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1. “¿Quién eres Señor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“¿Qué quieres que y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haga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2" name="Picture 6" descr="http://images.clipartpanda.com/answer-clipart-question_clipart.gif"/>
          <p:cNvPicPr/>
          <p:nvPr/>
        </p:nvPicPr>
        <p:blipFill>
          <a:blip r:embed="rId1"/>
          <a:stretch/>
        </p:blipFill>
        <p:spPr>
          <a:xfrm>
            <a:off x="7497720" y="2851200"/>
            <a:ext cx="1646280" cy="4006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D60DF-BE55-4514-81A9-22DDE1F7311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600000" y="2852280"/>
            <a:ext cx="554364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1" lang="en-US" sz="6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 en la vida.</a:t>
            </a:r>
            <a:endParaRPr b="0" lang="en-US" sz="6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5" name="Picture 13" descr="j0178297"/>
          <p:cNvPicPr/>
          <p:nvPr/>
        </p:nvPicPr>
        <p:blipFill>
          <a:blip r:embed="rId1"/>
          <a:stretch/>
        </p:blipFill>
        <p:spPr>
          <a:xfrm>
            <a:off x="5894280" y="1293840"/>
            <a:ext cx="954360" cy="954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179280" y="2862360"/>
            <a:ext cx="3355920" cy="28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590FC-3853-4544-A7CF-A138AE8FF17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0" y="260280"/>
            <a:ext cx="9144000" cy="78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Pero cuantas cosas eran para mí ganancia, las he estimado como pérdida por amor de Cristo. Y ciertamente, aun </a:t>
            </a:r>
            <a:r>
              <a:rPr b="1" i="1" lang="es-ES" sz="3000" spc="-1" strike="noStrike" u="sng">
                <a:solidFill>
                  <a:srgbClr val="ffffff"/>
                </a:solidFill>
                <a:uFillTx/>
                <a:latin typeface="Garamond"/>
              </a:rPr>
              <a:t>estimo todas las cosas como pérdida por la excelencia del conocimiento de Cristo Jesús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, mi Señor, por amor del cual lo he perdido todo, y lo tengo por basura, para ganar a Cristo, y ser hallado en él, … a fin de conocerle, y el poder de su resurrección, y la participación de sus padecimientos, llegando a ser semejante a él en su muerte, si en alguna manera llegase a la resurrección de entre los muertos. … Una cosa hago: olvidando ciertamente lo que queda atrás, y extendiéndome a lo que está delante, prosigo a la meta, al premio del supremo llamamiento de Dios en Cristo Jesús.” </a:t>
            </a:r>
            <a:r>
              <a:rPr b="1" lang="es-ES" sz="3000" spc="-1" strike="noStrike">
                <a:solidFill>
                  <a:srgbClr val="ffffff"/>
                </a:solidFill>
                <a:latin typeface="Garamond"/>
              </a:rPr>
              <a:t>(Fil. 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3:7-14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20877-122B-48C7-A4F8-53704C8C227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0" y="800280"/>
            <a:ext cx="9144000" cy="9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ú debes responder estas preguntas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carga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ones espiritu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talentos natur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eseos y pasi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es lo que otros dicen de ti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sueños y vis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oportunidades tienes frente a ti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0" y="0"/>
            <a:ext cx="9144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¿Conoce el propósito que Dios te ha dado? 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38B22-1789-45E4-B192-3EA4741B116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213000"/>
            <a:ext cx="5256360" cy="295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OBSTÁCULO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75" name="Picture 17" descr="j0178298"/>
          <p:cNvPicPr/>
          <p:nvPr/>
        </p:nvPicPr>
        <p:blipFill>
          <a:blip r:embed="rId1"/>
          <a:stretch/>
        </p:blipFill>
        <p:spPr>
          <a:xfrm>
            <a:off x="2124000" y="141300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7" name="Picture 7" descr="http://986045497.r.cdn77.net/wp-content/uploads/2011/06/Ball-and-Chain.jpg"/>
          <p:cNvPicPr/>
          <p:nvPr/>
        </p:nvPicPr>
        <p:blipFill>
          <a:blip r:embed="rId2"/>
          <a:stretch/>
        </p:blipFill>
        <p:spPr>
          <a:xfrm>
            <a:off x="5796000" y="2276640"/>
            <a:ext cx="3168720" cy="4392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17:23:03Z</dcterms:modified>
  <cp:revision>147</cp:revision>
  <dc:subject/>
  <dc:title>PowerPoint Presentation</dc:title>
</cp:coreProperties>
</file>